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3B7-12C9-4C2E-81B5-5FD696E1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BCB0-DB01-4113-BF70-C28376BF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342-3048-4E4E-A6C9-9D229747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3E9-3CF8-450B-82D5-68D0EDDC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4A0-F4E9-465E-A0DE-452CD2A1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1C0B-05E5-4434-81FC-B196FD21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FC8-BBD1-43F5-90A9-77E64D30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FC8-1B34-4F66-B261-3772C548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FF1-8E17-43D2-B964-0E7E15F9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614-CC40-4031-B6BC-C037F3BF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59C-BA8C-48CC-A815-D606F5CE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0EE-165D-410E-AEF4-DE8D5C69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FC42-BE49-4794-83BB-7731DCDAC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roce-Mozart-Detai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reelance-zone.com/blog/wp-content/uploads/2009/08/music_note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OZCyp-LcGw" TargetMode="External"/><Relationship Id="rId2" Type="http://schemas.openxmlformats.org/officeDocument/2006/relationships/hyperlink" Target="http://www.youtube.com/watch?v=3o5baA0Z9g4" TargetMode="External"/><Relationship Id="rId3" Type="http://schemas.openxmlformats.org/officeDocument/2006/relationships/hyperlink" Target="http://www.youtube.com/watch?v=ROllcRNrGI4" TargetMode="External"/><Relationship Id="rId4" Type="http://schemas.openxmlformats.org/officeDocument/2006/relationships/hyperlink" Target="http://www.youtube.com/watch?v=ROllcRNrGI4" TargetMode="External"/><Relationship Id="rId5" Type="http://schemas.openxmlformats.org/officeDocument/2006/relationships/hyperlink" Target="http://www.youtube.com/watch?v=ROllcRNrGI4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uzzle.com/editorials/1-29-2005-64987.asp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olfgang Amadeus Moz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 Matt Ev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600200"/>
            <a:ext cx="2798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omantic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ic is structured to make pieces more passionate and expr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ic very emo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ic very balanced and had lots of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600200"/>
            <a:ext cx="4086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sical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38320" y="15998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nown as a classical mus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pularized piano conc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uld watch and “absorb” the talents of other mu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3589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sical Infl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luenced in early childhood by Johann Nepomuk Humm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in influence through life was Ludwig van Beeth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ethoven also influenced by Mozart’s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38098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her Fun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38320" y="160020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st work was “Requiem Dies Ira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wever Mozart died before finishing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ote mostly religious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madeus” in 1984 showed cycle of Mozart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3489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sic and Movie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5410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8OZCyp-Lc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3o5baA0Z9g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youtube.com/watch?v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ROllcRNrGI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uzzle.com/editorials/1-29-2005-64987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en.wikipedia.org/wiki/Wolfgang_Amadeus_Moz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en.wikipedia.org/wiki/W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en.wikipedia.org/wiki/List_of_compositions_by_Ludwig_van_Beeth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www.youtube.com/watch?v=8OZCyp-Lc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www.youtube.com/watch?v=3o5baA0Z9g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www.youtube.com/watch?v=ROllcRNrGI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www.azopera.com/learn.php?subcat=composerbios&amp;composer=Moz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rly Life Basic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rn January 27, 17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rn in Salzburg, 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ents were Leopold Mozart and Anna Maria Per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86200" y="1523880"/>
            <a:ext cx="45244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rly Child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8640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rted composing music at five yea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ed piano and violin at age 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ed with sister, Maria Anna in Paris and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ed in front of Austrian Em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rly Childhood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ote his first composition at ag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rted writing symphonies at age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came extremely popular and asked to perform in Vi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151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yage to It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4640" y="160020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aveled to Italy with father to perform from 1770 to 17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ote “Mitridate” and “Lucio Sill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ured Italy a total of three times as a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7720" y="1447920"/>
            <a:ext cx="43099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rly Adult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cert master for Prince Archbishop’s court from 1774 to 17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ceived opportunity to perform opera in Munich in 17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98840" y="1447920"/>
            <a:ext cx="360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ult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500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rried Constanze Weber in 17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d money im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ways had to borrow from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3721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d of Mozart’s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895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ed of Rheumatic Fever or poisoning on December 5, 17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ried in unmarked grave in Saint Stephen’s Cathed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ains very popular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505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d of Mozart’s Life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895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sked to write “Requiem” before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me began to disappear after “Marriage of Figar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st famous works: “Marriage of Figaro,” “Don Giovanni,” and “Piano Concerto No. 24 in C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4040" y="1447920"/>
            <a:ext cx="404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19:44:03Z</dcterms:created>
  <dc:creator> </dc:creator>
  <dc:description/>
  <dc:language>en-US</dc:language>
  <cp:lastModifiedBy> </cp:lastModifiedBy>
  <dcterms:modified xsi:type="dcterms:W3CDTF">2010-01-03T22:03:43Z</dcterms:modified>
  <cp:revision>2</cp:revision>
  <dc:subject/>
  <dc:title>Wolfgang Amadeus Mozart</dc:title>
</cp:coreProperties>
</file>